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9.png" ContentType="image/png"/>
  <Override PartName="/ppt/media/image31.gif" ContentType="image/gif"/>
  <Override PartName="/ppt/media/image13.gif" ContentType="image/gif"/>
  <Override PartName="/ppt/media/image30.jpeg" ContentType="image/jpeg"/>
  <Override PartName="/ppt/media/image15.png" ContentType="image/png"/>
  <Override PartName="/ppt/media/image32.jpeg" ContentType="image/jpeg"/>
  <Override PartName="/ppt/media/image26.jpeg" ContentType="image/jpeg"/>
  <Override PartName="/ppt/media/image33.wmf" ContentType="image/x-wmf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8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C13-4C2E-409E-8E0E-1541F8C4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3E4-6211-48B2-9D9A-0C1268F5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1F3-1225-4905-B624-578F63B2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0FB-0A6B-457D-B7B2-7FE71524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331F-94B9-4225-9703-773CC436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29B5-A043-4626-BD7C-2E4295D6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3BA0-A8BF-4F1A-B0D2-31012506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3131-BEE3-484C-BD7E-4B968C81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ECCB-7FFA-4D8E-88F4-8D3B2596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882B-FE09-4973-949E-7C7BC48C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CC4E-1192-464F-9F9E-19630F2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90E-A7AA-4CBC-A5EF-744195FB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42BD-23F1-4C6B-AFAC-A0DDB37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3535-F518-459F-BCF2-D1B9A202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B5C9-1630-4EF8-99A5-952D50B0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CE97-8FC3-4A49-97EF-66A407FC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7FB6-4384-4C8C-9185-1A4767E4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46B-BF31-4DB5-A7A4-AB99E8B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720-1A57-459A-89DA-1C705B25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702-F862-4768-9D55-054B8CB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29B-E15D-4A2E-AB3A-0A15C896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E3E-6CCD-4083-9F0E-348725E8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939-0CE3-4B2A-80D3-DB90A7E9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40A-2A3B-49D6-91D7-EFCFE4C7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C519-C95F-49C7-AC87-8EAA09692FE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3A4D-2F67-4BD3-995C-DFFC07CA08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E4AD-6D50-46E2-B8AD-86C02E620C0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5A3C-4983-4FEF-BD33-CFE57A2D0A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26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6705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Викторина </a:t>
            </a:r>
            <a:br>
              <a:rPr sz="7200"/>
            </a:b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по ПДД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ОБЖ, 8 класс, тема 2, ур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ндреев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. Ач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533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Участник дорожного движения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523880"/>
            <a:ext cx="43434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одители, пешеходы, дорожные раб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5757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1036000">
            <a:off x="838080" y="1523520"/>
            <a:ext cx="21193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ена ли буксировка велосипеда другим велосипедом и мопедом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36232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е разреш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велосипеда велосипе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по велосипедной дор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 rot="20967000">
            <a:off x="1074240" y="3147840"/>
            <a:ext cx="212580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Что в сочетании из греческого и русского слов означает «светофор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124080"/>
            <a:ext cx="44956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Красный, желтый, зелены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Сверкающие ог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Носитель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172692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марте 1730 г. императрица Анна Иоанновна подписала указ, по которому лихачей надлежало задерживать, кучеров в наказание сечь розгами. Какие меры наказания в начале XVIII века применялись к людям, нарушающим правила движения:</a:t>
            </a: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4419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екли розг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Штраф, изъятие водительского удостове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адержание, штраф, розги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038480" y="3610080"/>
            <a:ext cx="396252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5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95121 -0.20255 L -0.47569 -0.20255 C -0.26267 -0.20255 -3.61111E-006 -0.14723 -3.61111E-006 -0.10139 L -3.61111E-006 2.96296E-006 E">
                                      <p:cBhvr>
                                        <p:cTn id="509" dur="7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должны подчиняться водители и пешеходы, если сигналы регулировщика противоречат сигналам светофора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514600"/>
            <a:ext cx="4572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свето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регулиро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Действовать по своему усмотрению.</a:t>
            </a: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1660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762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то проедет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4572000"/>
            <a:ext cx="41148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810240" cy="230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228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ому из пешеходов не запрещено переходить доро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4267080"/>
            <a:ext cx="68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7696080" cy="2195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31520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4267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8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С каким из дорожных знаков применяется следующая разме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                    2                    3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mage050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1143000" cy="97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2133720" y="1371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2743200" y="45720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304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Этот дорожный знак показывает, что вп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419720"/>
            <a:ext cx="5562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вижение возможно только пря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переди дорога с односторонним дви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3505320" cy="270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разрешено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876920"/>
            <a:ext cx="4952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велосипед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у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64832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909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9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0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1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Водитель велосип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4572000"/>
            <a:ext cx="6095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олжен уступ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Имеет преимущественное право на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19112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Что называется тормозным путем?</a:t>
            </a:r>
            <a:r>
              <a:rPr b="1" lang="en-US" sz="2400" spc="-1" strike="noStrike">
                <a:solidFill>
                  <a:srgbClr val="3fdde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7543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обнаружения водителем опасности до полной остан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нажатия водителем педали тормоза до полной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ормозной след от шин автомоб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Untitled-1"/>
          <p:cNvPicPr/>
          <p:nvPr/>
        </p:nvPicPr>
        <p:blipFill>
          <a:blip r:embed="rId3"/>
          <a:stretch/>
        </p:blipFill>
        <p:spPr>
          <a:xfrm rot="21004800">
            <a:off x="914040" y="838080"/>
            <a:ext cx="1104840" cy="112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wheel spokes="3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228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какой последовательности транспортные средства проедут перекрес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4572000"/>
            <a:ext cx="54100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, автомобиль, мот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, автомобиль, велос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ь, мотоцикл, велоси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449604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228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гда велосипедистам разрешено двигаться по двое в одном ря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00200"/>
            <a:ext cx="518148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ик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едет 10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25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33526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ается ли перевозить ребенка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1219320"/>
            <a:ext cx="5562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Только до 7 лет на специально оборудованном сид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а, на багажнике велос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12-12"/>
          <p:cNvPicPr/>
          <p:nvPr/>
        </p:nvPicPr>
        <p:blipFill>
          <a:blip r:embed="rId3"/>
          <a:stretch/>
        </p:blipFill>
        <p:spPr>
          <a:xfrm>
            <a:off x="4800600" y="3809880"/>
            <a:ext cx="3124080" cy="233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500"/>
                            </p:stCondLst>
                            <p:childTnLst>
                              <p:par>
                                <p:cTn id="8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45720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 транспортным средствам общего пользования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676520"/>
            <a:ext cx="5181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рамваи и троллейб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 и маршрутное так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, троллейбусы, трамваи, движущиеся по установленным маршру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2438280" y="3886200"/>
            <a:ext cx="218592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03 -0.01666 L -0.12534 0.0044 L -0.04913 -0.01666 L 0.03351 0.0044 L 0.11615 -0.01666 L 0.19323 0.0044 L 0.2757 -0.01666 L 0.35382 0.0044 L 0.43594 -0.01666 L 0.51858 0.0044 L 0.59653 -0.01666 L 0.67917 0.0044 L 0.75625 -0.01666 L 0.83889 0.0044 L 0.92153 -0.01666 L 0.99931 0.0044 L 1.08229 -0.01666 E">
                                      <p:cBhvr>
                                        <p:cTn id="851" dur="7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6680" y="205740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У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Вы – счастливчик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лучите при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154008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3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533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Имеет ли право водитель велосипеда проезжать под этот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78720" y="3113280"/>
            <a:ext cx="28616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меет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имеет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image061" descr=""/>
          <p:cNvPicPr/>
          <p:nvPr/>
        </p:nvPicPr>
        <p:blipFill>
          <a:blip r:embed="rId3"/>
          <a:stretch/>
        </p:blipFill>
        <p:spPr>
          <a:xfrm>
            <a:off x="1600200" y="2895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1440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ими буквами обозначены знаки, запрещающие движение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5800" y="2870280"/>
            <a:ext cx="1322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Б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, Б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90720" y="2819520"/>
          <a:ext cx="9428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19520"/>
                    <a:ext cx="942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 flipH="1">
            <a:off x="2514600" y="310356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061" descr=""/>
          <p:cNvPicPr/>
          <p:nvPr/>
        </p:nvPicPr>
        <p:blipFill>
          <a:blip r:embed="rId6"/>
          <a:stretch/>
        </p:blipFill>
        <p:spPr>
          <a:xfrm>
            <a:off x="4191120" y="30481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45440" y="4342680"/>
            <a:ext cx="3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14760" y="432828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36240" y="4328280"/>
            <a:ext cx="4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152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оступить велосипедисту, если перед перекрестком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050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05320" y="1603440"/>
            <a:ext cx="4572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сли нет машин, проехать перекресток без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ри проезде перекрестка быть особенно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становиться у стоп-линии, а если ее нет – перед краем пересекаемой проезжей части, и 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533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Какой знак называется «Пешеходная дорож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809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dde1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1                2               3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86000"/>
          <a:ext cx="109224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10922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381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19520" y="2514600"/>
          <a:ext cx="96984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514600"/>
                    <a:ext cx="969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7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48320" y="2514600"/>
          <a:ext cx="99684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514600"/>
                    <a:ext cx="9968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100" descr=""/>
          <p:cNvPicPr/>
          <p:nvPr/>
        </p:nvPicPr>
        <p:blipFill>
          <a:blip r:embed="rId9"/>
          <a:stretch/>
        </p:blipFill>
        <p:spPr>
          <a:xfrm>
            <a:off x="6400800" y="2438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 безопаснее поступить водителю мопеда, если на перекрестке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046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1981080" cy="1690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9880" y="1798920"/>
            <a:ext cx="4267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должить движение, не уступая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ехать перекресток с соблюдением мер предосторо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Где должны пересекать проезжую часть пешеходы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133720"/>
            <a:ext cx="46483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о пешеходным переходам (надземным или подземным), а при их отсутствии - на перекрестках по линии тротуаров или обоч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, если нет движущихся транспортных средств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933480" y="426708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0645E-007 L 1.11771 0.00555 E">
                                      <p:cBhvr>
                                        <p:cTn id="334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Под какой из знаков водитель мопеда не имеет права проезж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Оба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061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image057" descr=""/>
          <p:cNvPicPr/>
          <p:nvPr/>
        </p:nvPicPr>
        <p:blipFill>
          <a:blip r:embed="rId4"/>
          <a:stretch/>
        </p:blipFill>
        <p:spPr>
          <a:xfrm>
            <a:off x="5410080" y="198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9006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380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А                                             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10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09-16T17:15:1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